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CA0-61C7-4367-965B-66458FA5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F3E-F69D-4199-BE65-B2EC3DE1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0F7-8B58-4F46-843B-3F0EECB1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EFD-2052-405A-8400-A5549F06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D672-D3C2-45E6-AB4E-E1D8E342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1556-83BE-4119-AF3D-B087840A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9DE9-515B-4458-B189-99E6AA55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CDB0-CE8B-4636-BBE6-0C0C48A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0DC-2B74-40F7-829B-514EDD05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DC7-AF5A-458E-B778-7E7B9457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123-2ACC-4626-BF1A-2564B5A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4E7-CF5A-43A6-AD69-40B94A5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926-CAC4-4AC8-ABA9-C2B5E1B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B427-605A-4AB5-8CCD-B180758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147-ECF9-47B9-BFA5-BA92FD1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6706-1173-448E-98C9-061F5E9D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C7E-34F6-42D7-BF67-2D244D7F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690-FB94-4742-9518-88F8015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3D9-E1E1-4ED4-9EAE-FAB6E8C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698-760A-4A41-A85D-0893030E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4D9-8FA5-4549-B8FD-205A13A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CC8-EF73-4FD7-BCF6-D9798B5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533-BFFD-43D5-BDE5-7488629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588-4E9A-4DAD-A267-A8EEB17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1261-9929-4461-8BE7-F8D050425BA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169-EC96-4E84-AC93-0D590DB77CA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Applied Scienc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Food Labe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256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03880" cy="6264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16000" y="620280"/>
            <a:ext cx="39704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label gives the mass of nutrients in 114g of produc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hat % of the product is fat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What % of the product is protein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What % of the product is carbohydrat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173400" cy="547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184320"/>
            <a:ext cx="4681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label gives the mass of nutrients in 228g of produc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% of the product is fat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What % of the product is protein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What % of the product is carbohydrat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665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435280" y="692280"/>
            <a:ext cx="32511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label gives the mass of nutrients in 30g of produc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. What % of the product is fat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What % of the product is protein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What % of the product is carbohydrat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0:08:21Z</dcterms:created>
  <dc:creator>Tracey</dc:creator>
  <dc:description/>
  <dc:language>en-US</dc:language>
  <cp:lastModifiedBy>Tracey</cp:lastModifiedBy>
  <dcterms:modified xsi:type="dcterms:W3CDTF">2007-07-13T10:35:40Z</dcterms:modified>
  <cp:revision>2</cp:revision>
  <dc:subject/>
  <dc:title>Applied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