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7ACC-B736-4C2F-957D-0D552F6C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D073-5957-4CA2-9380-C374D242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1F4C-919A-45B9-AF46-E54D3B92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7EF6-FC20-4785-82E8-AC78D5C3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BCE0-F80D-4206-A9F3-B5265ECF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E007-5063-4E53-900C-32D27E65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990A-F65F-408F-B23A-BA4AB31F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CE13-32B8-4A2C-A9BC-1F0026B4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6A55-A5B2-4597-B701-3513B378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F84A-0202-49A2-AABD-45AA719B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1363-080C-46C8-B668-FBDDD04E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2E6F-BFDB-4FEA-97BE-4426EAE3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AE5A-FACE-4E0D-B44A-ADB8A188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6B2E-A281-42E1-8E2D-063C9430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B805-EB7C-4B1B-B7D2-E0FBAB3A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D2A3-02B7-4DAB-88AB-8063267D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DF2F-40EE-43B3-9AA0-9B1AE599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BBF7-FCF8-4A53-835E-C7783EBC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EA83-757F-4471-A70E-E6825D3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DD3F-3E4F-4C4D-B12A-3F1FC2A9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4D5F-3EFA-4E5A-8387-CEE20702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AAB7-3815-46F8-82E9-BA4CAD6B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E460-6AA9-488A-AC26-205DD3A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B383-E5A2-4F80-A269-AE2E39C3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EC0C-CD6B-4F43-A7BB-F032ACD4B1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786C-9A63-45DA-A145-A25AC03C1B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Inheritanc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H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What are chromosom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5036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ere do we get our chromosomes from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5724360" cy="572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867280" y="2276640"/>
            <a:ext cx="32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e all have 46 chromosomes (23 pairs).  We receive half of our chromosomes from our mother and half from our f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heriting character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36000" y="1628640"/>
            <a:ext cx="1458720" cy="194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84360" y="1773360"/>
            <a:ext cx="45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wo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brown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aired parents h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ginge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haired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64000" y="3645000"/>
            <a:ext cx="2151000" cy="1469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5373720"/>
            <a:ext cx="806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566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an you explain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2:36:21Z</dcterms:created>
  <dc:creator>biology dept</dc:creator>
  <dc:description/>
  <dc:language>en-US</dc:language>
  <cp:lastModifiedBy>biology dept</cp:lastModifiedBy>
  <dcterms:modified xsi:type="dcterms:W3CDTF">2007-07-17T12:58:10Z</dcterms:modified>
  <cp:revision>2</cp:revision>
  <dc:subject/>
  <dc:title>Inheritance</dc:title>
</cp:coreProperties>
</file>