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981-22AE-4131-B697-BBFDDEEA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021-BD61-42B8-9518-D6067925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CE8-FF2A-4DC3-9589-A84FE913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0A7-7E3E-4E10-9631-788290A0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C215-D3E9-4F26-A8E0-4A3CD92F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4061-1BB3-4B98-A0A2-EF899AF4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5A20-5655-42CA-AE27-C2D96E5B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0936-1651-4A9A-A880-BF5A830E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C326-5030-4110-A1E5-02970E1E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7121-BE88-4FAB-8B2F-77731913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BF6A-1499-4C30-BA90-3130CFB5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61F-4423-4AAE-998F-6908D94E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ACD5-D6C4-4864-8D5B-ED35FDA5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C2A2-AB93-4DC3-8554-5C63F0C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4D31-2FE5-4CDC-9826-4126C4C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DBF8-DF17-456B-A828-B4987842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9664-DF45-4F81-AE44-6388FBBB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09D-B7D5-44B2-AA47-FF860787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A1E-F44B-487D-89F5-ADE49747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18F-9042-4D31-902B-F51D80A7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774-BFFA-4BE9-AEF3-F9E4992C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AC1-FC11-4F60-B932-93C74EEE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C26-223F-4C84-B0AD-C37E28D4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611-E611-4FAC-A042-C604F144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27EC-06C1-4E0E-99B1-4AF59CBDA4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1191-D23D-4DFF-9961-BADA49F599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tificially managed food p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s don’t turn all the food they ea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new animal. Some of the food 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digested and is lost as was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energy is used for move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aintaining a constant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mperat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ople want meat, eggs and milk as cheaply as possibl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mers want to get the maximum increase in biomass without feeding the animals a greater quantity of f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have used the ideas about energy losses in a food chain in food produ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at the following ima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think of ways in which farmers increase food production more cheaply (by limiting the loss of energy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5832360" cy="3937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985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777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actory farming vs organic farm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show images of animals on organic fa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main differences between the conditions in a factory farm and in an organic fa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explain why organic food is more 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40080" cy="4911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92904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41036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13:35Z</dcterms:created>
  <dc:creator>Tracey Walker</dc:creator>
  <dc:description/>
  <dc:language>en-US</dc:language>
  <cp:lastModifiedBy>Tracey Walker</cp:lastModifiedBy>
  <dcterms:modified xsi:type="dcterms:W3CDTF">2007-06-27T13:30:44Z</dcterms:modified>
  <cp:revision>2</cp:revision>
  <dc:subject/>
  <dc:title>Factory farming - images</dc:title>
</cp:coreProperties>
</file>