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3C4-73A8-4357-9800-1EFA1507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8B9-4B91-4756-AC2D-78A64753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257-A183-4415-8E02-B91AEF8D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D0A-E643-48EE-8D57-24C7CB0B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C8CC-D947-4212-9A04-8AB1FABE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9CA-9583-4664-81FF-021C6295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C3D-8CBB-402A-B8B6-EFAAA02E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29D-D7B6-42F2-B916-9CE1945D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7D0-615A-4F9C-9CC8-E816475C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B62-5FF1-4B9E-A0D5-0E7A023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9A5-9697-4C85-848A-891A6FC0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5E5-1A8E-4444-97F5-7C4BE99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94F9-BFFE-4630-BDD9-719753163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N YOUR FRID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5327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diagram of the fridge and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ing the letters) where you think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items should be stor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w chicken and drumst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oked roast be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if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w 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e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w pork c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ghu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156360" y="1600200"/>
          <a:ext cx="2232000" cy="49240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2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012000" y="112536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ge Sh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15280" y="112536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112536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648000" cy="93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8360" y="1557360"/>
            <a:ext cx="75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8360" y="6524640"/>
            <a:ext cx="75564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N YOUR FRID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24000" y="1600200"/>
          <a:ext cx="3743280" cy="492408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2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 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J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979640" y="119700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ge Sh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1197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112536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647640" cy="93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08560" y="1916280"/>
            <a:ext cx="59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H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628640"/>
            <a:ext cx="1081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6524640"/>
            <a:ext cx="100800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1773360"/>
            <a:ext cx="0" cy="508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2:14:57Z</dcterms:created>
  <dc:creator>Tracey Walker</dc:creator>
  <dc:description/>
  <dc:language>en-US</dc:language>
  <cp:lastModifiedBy>Helen</cp:lastModifiedBy>
  <dcterms:modified xsi:type="dcterms:W3CDTF">2007-07-18T13:31:54Z</dcterms:modified>
  <cp:revision>3</cp:revision>
  <dc:subject/>
  <dc:title>WHAT’S IN YOUR FRIDGE?</dc:title>
</cp:coreProperties>
</file>