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B97-E208-47F2-9B98-1CF9D8F3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9B0-316F-489C-872C-0F71ABF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63D-C835-4227-896F-6F422F5E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A1D-3173-4F99-A71C-BD7B125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986-3AD8-413D-8EF1-6F49272B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AAA-D9D5-4AE3-8928-535F88C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A93-92C5-4575-A629-8B57D5C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E13-EC33-47D2-94C5-491A71D7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A4E-B677-4B76-B6C8-E3C6AF7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F6C-65BF-40C9-AA4C-921721C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C13-8BB6-4A42-A72E-6759C42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446-977F-47E4-8C97-6270030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74C2-A3E0-4847-B9E9-99E90D8D5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poisoning fac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year it is estimated that as many as 5.5. million people in the UK may suffer from food pois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in 10 peo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notified cases of food poisoning in the UK in 2005 was 78,73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280" y="1600200"/>
            <a:ext cx="230508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5290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Coli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754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in the guts of animals and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found in raw and undercooked meats, raw vegetables, unpasteurised milk and dairy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Coli can survive refrigeration and freezer storage, but thorough cooking and pasteurisation will kill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mptoms normally appear after about 2 days. Main symptom is diarrhoea. If severe infection it can lead to kidney failure and death (in vulnerable groups – elderly and small childr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2638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monella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in raw meat, poultry, eggs, and raw unwashed vegetables, unpasteurised milk and dairy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found in the gut and faeces of animals and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survive refrigeration but cooking and pasteurisation will kill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large numbers of the bacteria are needed to cause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s appear normally between 12 – 48 hours .They include fever, diarrhoea, vomiting, abdominal pain. Infection, if severe can be fa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s may last up to 3 weeks and can sometimes trigger other complications such as reactive arthri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86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ecue sea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leaflet, produced by the Food Standards Agency, on barbec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dvice would you give to someone who was holding a barbecue for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a list of dos and don’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food poiso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serious types of food poisoning are due to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bacteria present the more likely you are to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ultiply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486900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4581360"/>
            <a:ext cx="5292720" cy="1373760"/>
          </a:xfrm>
          <a:prstGeom prst="rect">
            <a:avLst/>
          </a:prstGeom>
          <a:solidFill>
            <a:srgbClr val="66ff33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optimum (be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itions for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row rapi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99ff66">
              <a:alpha val="5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armth (around 37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ultiply best between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and 63°C but are killed at temperatures above 70°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temperatures below 5°C most bacteria multiply very slow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bacteria will die but many survive to multiply again if warm conditions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t is why proper cooking and chilling of food can help reduce the risk of food poi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66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 bacteria make us feel 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cteria grow in food and produce tox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toxins are released into th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the toxins that make you feel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ossible for food that appears fresh and safe to eat to contain the tox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 when cooked, it is possible for food past it’s sell by date to still contain toxins that can make us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cteria can also be eaten in food and multiply inside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bes can get into our food at any point in the food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owed to survive and multiply they can cause illness when the food is ea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that has harmful microbes in it is said to be conta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501336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4869000"/>
            <a:ext cx="5508360" cy="1557000"/>
          </a:xfrm>
          <a:prstGeom prst="rect">
            <a:avLst/>
          </a:prstGeom>
          <a:solidFill>
            <a:srgbClr val="66ff33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ways that microbes from contaminated foods are spread to other fo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name given t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ymptoms of food poi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9ff66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dominal p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rrho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866880" cy="85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84720" y="3933720"/>
            <a:ext cx="2881440" cy="2653560"/>
          </a:xfrm>
          <a:prstGeom prst="rect">
            <a:avLst/>
          </a:prstGeom>
          <a:solidFill>
            <a:srgbClr val="66ff33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job of an Environmental Health Officer (EH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illa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bacteria that cause food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ylobacter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ylobacter is the most common identified cause of food poi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nd in raw poultry and meat, unpasteurised milk and untreat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lness can be caused by a small number of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mptoms: fever, headache, abdominal pain, diarrhoea (which may be bloo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normally takes 2-5 days for symptoms to appear and can make people ill for up to 10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0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8:48:30Z</dcterms:created>
  <dc:creator>Tracey Walker</dc:creator>
  <dc:description/>
  <dc:language>en-US</dc:language>
  <cp:lastModifiedBy>Helen</cp:lastModifiedBy>
  <dcterms:modified xsi:type="dcterms:W3CDTF">2007-07-18T13:29:51Z</dcterms:modified>
  <cp:revision>5</cp:revision>
  <dc:subject/>
  <dc:title>Slide 1</dc:title>
</cp:coreProperties>
</file>