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camera.wav" ContentType="audio/x-wav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5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DE7-B54F-4BCD-A498-203215B3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370-C0C9-4717-ACC3-12A97366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65E-4E2B-4541-B3F6-336BCCFA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75B-9E98-450D-BF6A-EA3DCB17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7C1-D554-46CE-A484-9FFD9D2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555-CCDB-4DCA-AC62-21C174B9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DDD-FBB6-40AF-9974-33283B98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148-B6AC-4C7E-9E82-1A739C08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E4F-34A4-422A-A29D-CE62CA1E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C1E-C418-459C-A7F8-21BD59F2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B04-97B7-4F50-B521-B7C0FEA4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9D7-8481-462B-AD39-D8DA09F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CA43-990B-4B63-B755-9C1704EA1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Food Safety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24480" y="3733920"/>
            <a:ext cx="190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ick the button to be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85800" y="49528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9892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120960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08360" y="458136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148360" y="2205000"/>
            <a:ext cx="1333440" cy="7714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5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9051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safest way to ensure that your chicken is thoroughly coo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762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It will look golden brown on the 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24210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The juices are clear and there are no pink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19112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It has been cooked for the time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33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1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477120" y="190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90512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’ve opened a tin of tuna, used half to make a salad – what should you do with the remai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62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Put film over the tin and put it in the f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24382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Put it back in the cupboard with the other t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41911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But the rest into a suitable covered container and put it in the f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5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2193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Well don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You have completed the qui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1814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endshow"/>
          </p:cNvPr>
          <p:cNvSpPr/>
          <p:nvPr/>
        </p:nvSpPr>
        <p:spPr>
          <a:xfrm>
            <a:off x="2209680" y="43434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038480"/>
            <a:ext cx="190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ick the button to end the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endshow"/>
          </p:cNvPr>
          <p:cNvSpPr/>
          <p:nvPr/>
        </p:nvSpPr>
        <p:spPr>
          <a:xfrm>
            <a:off x="685800" y="49528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2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219320"/>
            <a:ext cx="5715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hat is the wrong answ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ou must start the quiz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6019920" y="5334120"/>
            <a:ext cx="2209680" cy="76176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37" h="21600">
                <a:moveTo>
                  <a:pt x="0" y="0"/>
                </a:moveTo>
                <a:lnTo>
                  <a:pt x="62637" y="0"/>
                </a:lnTo>
                <a:lnTo>
                  <a:pt x="62637" y="21600"/>
                </a:lnTo>
                <a:lnTo>
                  <a:pt x="0" y="21600"/>
                </a:lnTo>
                <a:close/>
              </a:path>
              <a:path fill="lightenLess" w="62637" h="21600">
                <a:moveTo>
                  <a:pt x="0" y="0"/>
                </a:moveTo>
                <a:lnTo>
                  <a:pt x="62637" y="0"/>
                </a:lnTo>
                <a:lnTo>
                  <a:pt x="61237" y="1400"/>
                </a:lnTo>
                <a:lnTo>
                  <a:pt x="1400" y="1400"/>
                </a:lnTo>
                <a:close/>
              </a:path>
              <a:path fill="darken" w="62637" h="21600">
                <a:moveTo>
                  <a:pt x="62637" y="0"/>
                </a:moveTo>
                <a:lnTo>
                  <a:pt x="62637" y="21600"/>
                </a:lnTo>
                <a:lnTo>
                  <a:pt x="61237" y="20200"/>
                </a:lnTo>
                <a:lnTo>
                  <a:pt x="61237" y="1400"/>
                </a:lnTo>
                <a:close/>
              </a:path>
              <a:path fill="darkenLess" w="62637" h="21600">
                <a:moveTo>
                  <a:pt x="6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37" y="20200"/>
                </a:lnTo>
                <a:close/>
              </a:path>
              <a:path fill="lighten" w="6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0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1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1600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447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2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3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371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4 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5 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6 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1676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335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Sala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Raw meat, poultry and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191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Che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6477120" y="190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90512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ut food in the fridge, which items should be placed on the bottom shel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6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7 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5238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8 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9 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0666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765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Question 10 : Help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533520" y="57913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84360" y="58388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335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9051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you need to keep raw and cooked foods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1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The flavour may be af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The food will go off more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1911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To stop bacteria which may be on the raw food getting on to the cooked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051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it most important to wash your h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7621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After handling cooked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After handling raw m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41911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Before going to the toi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9051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you tell when food is contaminated with food poisoning bacte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762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It smells bad and/or tastes s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It has mould growing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191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You ca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9051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es stock rotation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762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Use up older items before newer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382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Change your supplier regul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191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Move all the items round in your cup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051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best way to dry your h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762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With a disposable paper tow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With a dirty hand tow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191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On your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8153280" y="2590920"/>
            <a:ext cx="8384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8153280" y="4267080"/>
            <a:ext cx="83844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153280" y="5867280"/>
            <a:ext cx="83844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0512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you need to thaw a frozen chicken thoroughly before cook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762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It will be too cold in the middle if you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It will be overcoo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191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Bacteria can survive the cook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6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Question 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057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001000" y="609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8001000" y="2362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9051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es ‘use by’ mean on a food lab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762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The food can only be eaten on this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4382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The food should only be eaten before this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ahoma"/>
              </a:rPr>
              <a:t>The food will not be at its best after this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2:53:25Z</dcterms:created>
  <dc:creator>Laptop Number E.15</dc:creator>
  <dc:description/>
  <dc:language>en-US</dc:language>
  <cp:lastModifiedBy>Tracey Walker</cp:lastModifiedBy>
  <dcterms:modified xsi:type="dcterms:W3CDTF">2007-07-11T08:21:58Z</dcterms:modified>
  <cp:revision>11</cp:revision>
  <dc:subject/>
  <dc:title>Sound Quiz</dc:title>
</cp:coreProperties>
</file>